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594-F958-4921-9347-DD0D3F51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FBB-AF0A-4EDA-B838-283B4775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E02-B849-4A31-8E12-A4C25C0C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F9E-77F2-4AC5-8282-A9D2473F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C279-4489-492D-AC68-78E8517B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11DB-B241-40AF-A251-4FEECD02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4D34-A3A7-4A31-9470-75C9D07A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A734-D47B-4D16-BA4C-971A2389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08BB-3CF4-48FB-8FD2-1209D356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787E-19BF-490C-813F-7D332FF3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1CB3-D630-430B-B653-C0B581FD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5CD-616D-40C0-9433-DA8CD5B7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3007-467F-4A6A-8CB6-29B8BA92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C936-5387-497B-B28B-2540A2EE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6FFB-9739-47D5-A908-2B56563B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61BC-96DD-4569-9817-7420A3E7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20AF-9762-4819-AFB3-8A798299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7C5-2645-4586-9000-F925DE8E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738-C95F-4191-A095-CDFA94DD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AB7-6231-4559-A212-117846AF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D04-A6D4-4938-99B4-45BEAE02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56A-E9E7-4FC0-ACA4-E441E7AB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1D1-9A0C-496C-9768-A3D0477A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323-A9C5-418D-A251-268AA40E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4943-97F9-478C-B0B8-64D007673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26F4-0470-4C91-A557-69EFE25A1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dealspain.com/" TargetMode="External"/><Relationship Id="rId3" Type="http://schemas.openxmlformats.org/officeDocument/2006/relationships/hyperlink" Target="http://spanishunlimited.com/" TargetMode="External"/><Relationship Id="rId4" Type="http://schemas.openxmlformats.org/officeDocument/2006/relationships/hyperlink" Target="http://newsimg.bbc.co.uk/media/images/39249000/jpg/_39249664_bullfightap203.jpg" TargetMode="External"/><Relationship Id="rId5" Type="http://schemas.openxmlformats.org/officeDocument/2006/relationships/hyperlink" Target="http://www.all-creatures.org/anex/cattle-bf-21.jpg" TargetMode="External"/><Relationship Id="rId6" Type="http://schemas.openxmlformats.org/officeDocument/2006/relationships/hyperlink" Target="http://www.world-guides.com/images/ibiza/ibiza_nightclubs3.jpg" TargetMode="External"/><Relationship Id="rId7" Type="http://schemas.openxmlformats.org/officeDocument/2006/relationships/hyperlink" Target="http://www.nerjarentals.info/nerja/img/nerja-nightlife.jpg" TargetMode="External"/><Relationship Id="rId8" Type="http://schemas.openxmlformats.org/officeDocument/2006/relationships/hyperlink" Target="http://www.travelinstyle.com/spain/Copy%20of%20spain2/EspanaImageSml/Flamenco.jpg" TargetMode="External"/><Relationship Id="rId9" Type="http://schemas.openxmlformats.org/officeDocument/2006/relationships/hyperlink" Target="http://www.daydreamvillas.co.uk/valencia/fiestas_foto2.jpg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anish Cultu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alie Singlet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amenc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 Spanish Tra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e: the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le: the 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tarra: guitar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of the Gyps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392200" y="4267080"/>
            <a:ext cx="4359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2"/>
              </a:rPr>
              <a:t>http://www.idealspai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3"/>
              </a:rPr>
              <a:t>http://spanishunlimite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4"/>
              </a:rPr>
              <a:t>http://newsimg.bbc.co.uk/media/images/39249000/jpg/_39249664_bullfightap203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5"/>
              </a:rPr>
              <a:t>http://www.all-creatures.org/anex/cattle-bf-2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6"/>
              </a:rPr>
              <a:t>http://www.world-guides.com/images/ibiza/ibiza_nightclubs3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7"/>
              </a:rPr>
              <a:t>http://www.nerjarentals.info/nerja/img/nerja-nightlif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8"/>
              </a:rPr>
              <a:t>http://www.travelinstyle.com/spain/Copy%20of%20spain2/EspanaImageSml/Flamenco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9"/>
              </a:rPr>
              <a:t>http://www.daydreamvillas.co.uk/valencia/fiestas_foto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calaeditions.com/images/CG_F_Romantic%20Siesta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ang.rice.edu/langmedia/collection_spanish/lm_spain/images/sp_greetings_t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vergreen-spain.com/images/currency.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riomarseafood.com/images/feature/23_rio%2003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, conservative, sty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ls wear tro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s are into designer w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m is “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skirts and swim-wear are frowned up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2417760"/>
            <a:ext cx="42670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ap, substantial meals as opposed to gour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rano 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 delicacies (Pae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ental breakfast, light lunch, late evening m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0280" y="1676520"/>
            <a:ext cx="366228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386000" y="4191120"/>
            <a:ext cx="2012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ney Matt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ajor credit cards are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laces have ATMs that allow you to withdraw cash with your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US Dollar = .77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5400" y="2133720"/>
            <a:ext cx="3084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orm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tings consist of a handshake and a kiss on both ch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men maintain longer eye contact with 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is slow pa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begins when the sun goe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3560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est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ully enjoy a siesta it is very important to have a good lunch with friends or/and rela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l siesta takes place in bed and in pyjamas, but a suitable sofa is also meant if a bed is not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is very important. A siesta should last between 15-30 minutes not mo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't let anything disturb you. Siesta is quite a serious activity. Some people can't enjoy a siesta without tv or radio. If these kind of things help you to fall asleep, use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st way to wake-up from a siesta is a delicate human voice. If you don't have anybody near, remember to use an alarm clo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8600" y="2782800"/>
            <a:ext cx="4267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ightlif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4267080"/>
            <a:ext cx="8686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ings start with el pas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life is lived in the str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et cafes and 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htclubs are the main attraction for tee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3209760" cy="2144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48320" y="1932120"/>
            <a:ext cx="36576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estas and Trad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own has their own celeb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brate national holidays such as Christmas, Easter, All Saint’s Day, 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of festivities are religious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449604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llfigh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ional Sport of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1 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,000 bulls are killed each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52880" y="4368960"/>
            <a:ext cx="36655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0:15:23Z</dcterms:created>
  <dc:creator>SingletonN</dc:creator>
  <dc:description/>
  <cp:keywords/>
  <dc:language>en-US</dc:language>
  <cp:lastModifiedBy>SingletonN</cp:lastModifiedBy>
  <dcterms:modified xsi:type="dcterms:W3CDTF">2007-02-05T16:49:27Z</dcterms:modified>
  <cp:revision>37</cp:revision>
  <dc:subject/>
  <dc:title>Spanish Cul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